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A45-0FCC-42BF-B7FC-943C3BD0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419-29A6-40EC-96EC-FBAA615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30F-241B-4760-9302-E242E8B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EAB-05D8-4F9F-95F7-F328C797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3837-4329-44F7-9397-3AC79F5F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E48C-BA20-46F5-AB2A-119BE77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81C-C6EC-4FFF-9E15-67EDDA58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FF1-E165-47CF-8287-473F20FB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D4DD-155B-44EB-A01B-AC496C6D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626-F93D-4DE0-95C6-40468045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32D5-13CF-4E32-A466-C35407C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BB1-79A4-4A69-8DB0-F771714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84A1-3B47-4043-BD01-2ABDD36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2669-144F-4E80-A187-E546D3F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59C-FF10-4094-9850-8B3739E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8E14-8C12-48DD-A19F-02A3DA69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EE45-A602-4DCB-9753-475A22DD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FC9-37AC-4512-B9E7-3E8DEF53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CAD-303A-4A1C-B0EE-51EA23A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718-C4FB-4424-8518-3F10A486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DD4-7FA8-40C1-9FD5-56007FE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1C7-6C59-42BC-B92E-23A50A8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1A5-1E71-482C-B6A6-9C44801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38D-B113-48AF-9FDF-6D026A59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E50-7D10-422C-9B31-962C596563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696-075D-497A-8769-4A631B396A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imosa.pntic.mec.es/ajuan3/lengua/usosdese.htm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El verb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xpresa los "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dent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 que le ocurren al sujeto. Es la forma que tenemos de contemplar la realidad con respecto al tiempo. De otra forma, podríamos decir que el verbo expres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ones, procesos o esta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respecto a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tuándolos siempre e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d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españo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 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indica el término de la 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jugar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n jug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stas hor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brán jug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Todas l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ormas compuest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más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térito 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en aspecto perfe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specto im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Se indic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la acción sin su términ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no quiere decir que la acción se esté produciendo , sino que no se expresa si esa acción está acabada, se está produciendo, se ha producido o se va a producir en un futu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juega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jugaba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jugar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l mod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El modo expresa 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intención del hablante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al comunicar una ac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odo indicativo.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puede contemplar la acción de una form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objetiva, real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ensando que el hecho ha sucedido, sucede o sucederá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etrás de los cristales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luev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Hoy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ha llov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ísimo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ñan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lov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o sobre la zona centr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odo subjuntiv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uede expresar su subjetividad sobre la acción del 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, se expresan las accion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mo posibles, dudosas, irre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, el subjuntivo depende en muchos casos de que el verbo esté o no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ubordin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ot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Ojalá llueva hoy!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Ojalá llueva mañana!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i nevara mañana, no vendría al instituto. </a:t>
            </a:r>
            <a:br>
              <a:rPr sz="2800"/>
            </a:b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Modo imperativo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     Posee unas peculiaridades que lo distinguen de los otros modos: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Sólo posee una persona, la segund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 En singular y plural )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No se puede utilizar con negación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Hay que recurrir a otras formas verbales (la forma subjuntiva) para expresar el mandato negativo en español.Ej: Cerrad la ventana /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* No cerrad la ventana/ 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No cerréi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la ventan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Sólo cumple la función conativa o apelativa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 la lengua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 Por todo ello, es un elemento verbal extraño, de una eficacia expresiva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La voz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La voz expresa la forma que tiene el sujeto de participar en la acción del verbo. En español hay dos voces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 bien la pasiva se usa muy poco en su forma pu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oz act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la más usual.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l sujeto realiza la acción del verb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cimos que es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g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la acción verb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rtero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treg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a correspond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José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 Juanita con todo su coraz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oz pas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realiza, sino que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recibe la acción expresada por el 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Por ello,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ci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 el agente es otro y puede estar o no expres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entreg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or el carte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Juanit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pasi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varias formas de expresar la voz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castella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suele llamar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iva p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a construcción sintáctica que se forma co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erbo en voz 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uxiliar ser + el participio correspondiente)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c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a expresión d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omplemento Ag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Ag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es entregada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 por el cartero.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egunda de 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aquella construcción que presenta 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 en voz pas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in la expresión del CAg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J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uanit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pas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s la parte variable de la oración: pos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sinenci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morfemas de voz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funciona como predicado de una oración o de una pro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 la construcción más utilizada ( y la que crea mayores problem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la llamad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iva reflej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 se forma con u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 en forma activa más </a:t>
            </a:r>
            <a:r>
              <a:rPr b="0" lang="es-E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rticula se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llama pasiva porque su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 sigue siendo pasivo; y refleja porqu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 partícu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tá emparentada originariamente c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l pronombre reflexivo s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 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e entrega la correspondencia =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es entre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, el gerundio y el particip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stan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dverb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d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 y 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ndican aspec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mientras que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ndica aspec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se nombran con su infinitivo y, según la terminación de éste, se agrupan en tres conjun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Tipos de verbos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pul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Unen sujeto y atributo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er, 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dic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Son núcleos del pred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ransitivos, Intransi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onomi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fe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pulativos o atribu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poseen un significado semántico pl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ecesitan de u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tribut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para signifi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rve de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ópu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unión entre el sujeto y el atribu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radic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el verbo, sino e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tribu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atributivos puros so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 pueden añadirse otros, aunque su significado léxico es algo mayor: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recer, resultar, volverse, hallarse, llegar a ser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, etc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47560" y="167652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s predicativos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aquellos que poseen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 plen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redican, dicen algo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rrer, nadar, tener, comer, dormir, vivir, etc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predicativos pueden dividirse e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oseen un significado compl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no que éste es susceptible de ser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mpletado por un complemento dir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gnificado "pasa" del verbo al complemento directo. 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ener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, esta clasificación debe atender más a criterios sintácticos que significativ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os verbos transitivos necesitan obligatoriamente un C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tros pueden o no necesitarlo según cuál sea el interés del hablante en explicitarlo o 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- ¿ Qué haces? / - Estudio /-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udi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a transitividad de los verb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ólo la segunda respuesta presenta una estructura transitiva, mientras la primera es intran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verbales pueden ser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xpresan l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ón, pasión o est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,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, el tiempo, el aspecto, el modo y la vo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848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Intransi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oseen un significado compl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no necesitan la presencia del complemento directo. 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ormir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De igual forma que los anteriores, el hablante puede tener la necesidad de explicitar un CD, incluso en estos casos: Ej: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orm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lácidamente/ Durmió el sueño de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primera oración es una estructura predicativa intransitiva, la seguna sería tran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onomi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e conjugan necesariamente con u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ronombre perso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levantarse, tutearse..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on defec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ólo se conjugan e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lgunos tiempos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y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ersonas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(acaecer, acontec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..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uni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ólo se conjugan e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tercera persona del singular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(llueve, nie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verb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sintagmas que expresan características de la acción verba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osibles de exponer con las formas de la conjug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án constituidas por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 personal de un verbo que aporta la significación principal, unidos o no por un nex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y pueden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in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cabar de, deber de, echar(se) a, venir...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ndar, continuar, estar, llevar, seguir, venir... + gerund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ir, llevar, tener...+ particip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erífrasis 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informan de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ctitud del habla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u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informan sobre el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desarrollo de la acción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erífrasi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e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iferentes significa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terminación o no de la a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abar de +  infinitivo, dejar de + participio, llegar a + infinitivo y tener + particip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Inco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l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rincipi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cción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charse a + infinitivo, empezar a + infinitivo, estar a punto de + infinitivo, estar para + infinitivo, empezar a + infinitivo e ir a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Iterativo y frecuent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expresa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repetición y frecuencia de la acción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ler + infinitivo y volver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Durativo y progre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indica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uración y progresión de la acción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ndar + gerundio, continuar + gerundio, estar + gerundio, llevar + gerundio y seguir + gerund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atte Bo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ropone agrupar los tiempos en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odo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 maner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distint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 la habitual. He aquí su clasificación de modos y tiem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14400" y="0"/>
          <a:ext cx="7696080" cy="6532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O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pers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initivo – gerundio –Participio pas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turo de Indicativo – Condici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nte de Indicativo – Pretérito indefinido de indic. – Pretérito imperfecto de indic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066680" y="1981080"/>
          <a:ext cx="7543800" cy="46278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O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jun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nte de subjuntivo – imperfecto de subjuntivo – Futuro de subjun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er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er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si el suje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b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primera persona)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scuch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segunda persona) o si 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lguien o algo de quien se hab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tercera persona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si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uno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ngul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o son varios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lu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os distintos tiempos están sólo en parte relacionados con el tiempo cronológic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o se debe creer que cada tiempo corresponde a un momento del tiempo cronológico: hay una serie de otros factores que influyen en la elección de un tiemp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-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ctitud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 quien habla con respecto a lo que d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o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or el que dice lo que d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intenciones expresiva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u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ctitud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respecto del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interlocutor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y de 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situació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  El verbo es la parte de la oración que más expresa el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xisten, lingüísticamente, tres tiempos: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retérito o pasado, presente y futur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estudiar estos tres tiempos verbales, debemos considerar que el concepto  de tiempo,   es algo absolutamente relativo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pende de la forma en que los hablantes viven esa idea vaga que entendemos por tiemp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, en realidad, el único tiempo qu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xis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único del que podemos hablar con seguridad, puesto que ya ha sido vivid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hecho, hay muchos más tiempos verbales referidos al pasado que al presente o al futuro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existe como tal tiempo. En cuanto no se ha cumplido es futuro; en cuanto se cumple pasa a ser pretér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Por ello, hay que tener en cuenta que se vive de forma distinta según los hablantes. El presente lingüístico puede tener una duración momentánea o puede abarcar todo nuestro sig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ora hace mucho frío. Hoy hace mucho frío. Estamos ahora a plena luz del d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mos en el sigloXX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el tiempo más incier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llo también es el menos utilizado. En muchos casos se sustituye por otros tiempos que expresan mayor cert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sp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xpres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 interno de la acci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spañol, independientemente de que sea pasado, presente o futuro, puede expresar la forma en que se desarrolla la acción verbal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tendiendo a su termin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decir, que además de decirnos en el tiempo que está, n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dica si la acción ha terminado o 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0:59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